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4742-23B1-4FEA-9E84-D35993DC4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F516-4D5F-4999-B16F-0F8F7E99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8C2D-E4EE-49DC-8FE3-2257EA951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D782-0CA4-425A-9135-BDDB4B561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922D-F71E-4FF1-951B-4ACA5674C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69FB-FD0B-4EED-8DC7-BCFA92CA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8516-7427-45DB-BBA8-4968792A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6B26-A564-45F5-AEFE-FABF366F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BA9D-19B3-4C01-8EFA-15636A0A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DF04-DB51-42DF-B583-75A2D6B7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65B78-C037-4D6D-8571-27109A9B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58FC-2820-4658-BEFF-6B34DE38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8845-C75D-46D0-A73E-283AB95F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71BAC-FDD8-4ED7-A703-E8931BF2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6DEBF-C9A3-4125-A58B-400FF9EB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94A6-B1F1-49F6-9DA6-DD5A5EAC5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4632-CE81-4226-AD63-E45CCF8DD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C824-DC34-4D06-98EC-01C4EBFC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9CF4-6F4D-4055-BE01-B796A437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1A92-AA9A-4028-BD47-C09071CD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3FCC-CDC1-4556-BD76-415F4191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9113-7E3D-437B-90E9-CF02DAE1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92D4-8B17-4CB7-AAFA-D4336A87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C462-9899-4F9C-940D-FB437B9D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3270-4C97-4A61-9F3B-3DD08DDFAD6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F24A-D39B-4FE9-8C2F-A4071F14583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0/Evictbonusarmy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8/FDR_in_1933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residentialtimeline.org/html/record.php?id=18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11.3:  Hoover’s Presidency during the Depression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Hoover loses support because of his “actions” during the depress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38080" y="647640"/>
            <a:ext cx="762012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Image:Evictbonusarm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685800"/>
            <a:ext cx="8610480" cy="55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oover’s actions with the Bonus Army = Franklin D. Roosevelt new presid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" descr="Image:FDR in 193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41920" y="1676520"/>
            <a:ext cx="4402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7848720" cy="53514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ooverville N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.  Hoover’s “Actions”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.  “Business as usual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7" name="" descr="Political cartoon regarding stock market specula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76640" y="1905120"/>
            <a:ext cx="5067360" cy="45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B.  Hoover Takes Action:</a:t>
            </a:r>
            <a:br>
              <a:rPr sz="4400"/>
            </a:b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Too little, too late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overnment Projec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oulder/Hoover Dam and roads=________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450960" cy="46483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62120" y="3505320"/>
            <a:ext cx="391320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.  Government “help”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886680" indent="-443160">
              <a:spcBef>
                <a:spcPts val="70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ederal Home Loan Bank Act – lowered _____  for homeowners and allowed refinance for farmers.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enefit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886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4267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.  Government “help”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.  Reconstruction Finance Corporation (RFC)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295280" indent="-380880">
              <a:spcBef>
                <a:spcPts val="601"/>
              </a:spcBef>
              <a:buClr>
                <a:srgbClr val="ffff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mergency financing to large businesses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295280" indent="-380880">
              <a:spcBef>
                <a:spcPts val="601"/>
              </a:spcBef>
              <a:buClr>
                <a:srgbClr val="ffff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rickle down economic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472464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.  Bonus Army Camp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o were they and what did they want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ant bonus now not in 1945 ($500/$1000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tman Bill reject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at happens next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434340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68160" y="371520"/>
            <a:ext cx="78076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62120" y="519120"/>
            <a:ext cx="761976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0-12-13T16:09:21Z</dcterms:modified>
  <cp:revision>7</cp:revision>
  <dc:subject/>
  <dc:title>PowerPoint Presentation</dc:title>
</cp:coreProperties>
</file>